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43551"/>
        <c:axId val="44240420"/>
      </c:barChart>
      <c:catAx>
        <c:axId val="14143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40420"/>
        <c:crosses val="autoZero"/>
        <c:auto val="1"/>
        <c:lblAlgn val="ctr"/>
        <c:lblOffset val="100"/>
        <c:noMultiLvlLbl val="0"/>
      </c:catAx>
      <c:valAx>
        <c:axId val="44240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43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A12-518B-4A26-A207-ABA4610E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3CC-B0EA-49A6-9A40-B2D21C95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6B3-226A-4E8A-B529-03319DD7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DDC-3239-4A5D-987F-691FA088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A9F-D0BB-4AFA-9EA0-57D3D5FE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EBB-987B-47D9-B58E-B27B737D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09CC-2357-4B3F-8430-23E66A00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9C3-92E5-4A83-A4AE-1CAA3AA9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B72-DBFC-4FE0-A49A-F4B7165E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1D3-14EE-4B56-B0F2-C9CABCB4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677-D55C-4340-8592-F18C3280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82E-83E9-4BED-B059-01E1DB7F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D4227-F76C-4F64-8469-F40571B03B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