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567457"/>
        <c:axId val="85633590"/>
      </c:barChart>
      <c:catAx>
        <c:axId val="895674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633590"/>
        <c:crosses val="autoZero"/>
        <c:auto val="1"/>
        <c:lblAlgn val="ctr"/>
        <c:lblOffset val="100"/>
        <c:noMultiLvlLbl val="0"/>
      </c:catAx>
      <c:valAx>
        <c:axId val="856335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5674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3D4E-B1B4-4508-A74D-9622C2113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9B47-107A-4D5C-9F8E-555219DE5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51AC-8D38-46CD-86A1-FAADAA3F7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FB1C-4457-4B49-BE95-0DE777AB8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C9B5-1A7C-4C7C-8AA9-9B05C700E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3700-E50C-4939-ACB0-9BA6A5A8C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0003-B066-432B-A32A-32BF7CD13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6D3A-57E4-4D07-9CDC-2E56B55FC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44A4-4C46-489C-9324-02CEAB2D0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399E-C3CC-452D-A39A-9EF7E6F2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35BD-AF37-42E9-9ABF-180B7FC5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BBA0-B8BB-4EE9-A832-9D81A518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A18BE7-01DE-4975-B332-425C451E8CC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