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07801"/>
        <c:axId val="98751542"/>
      </c:barChart>
      <c:catAx>
        <c:axId val="84007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51542"/>
        <c:crosses val="autoZero"/>
        <c:auto val="1"/>
        <c:lblAlgn val="ctr"/>
        <c:lblOffset val="100"/>
        <c:noMultiLvlLbl val="0"/>
      </c:catAx>
      <c:valAx>
        <c:axId val="98751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07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B17-1A3D-4A56-A56D-A2C6747E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05E-8A5B-423C-AF58-3DBEDD89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1B7-FD5C-4AFA-8D1B-29360421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80E-01DB-4C8A-925D-128EED5E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238-0722-469F-9785-CA82859E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9CF-21DD-4E56-9F56-D661A8C7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9E6-6ECE-4A8F-9D6C-B9DFBAD4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438-B15A-4E2A-B0CA-8DFE5E2E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A34-18AB-4ACE-B8E0-FBE8679A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FCC-5A61-48BD-B19E-ED326048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E26-AF57-48A5-8D0F-842821D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83F-F263-4159-A8F7-FF09B28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E7B0C-817F-4199-94AD-3149A45E24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