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81272"/>
        <c:axId val="54153249"/>
      </c:barChart>
      <c:catAx>
        <c:axId val="12581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53249"/>
        <c:crosses val="autoZero"/>
        <c:auto val="1"/>
        <c:lblAlgn val="ctr"/>
        <c:lblOffset val="100"/>
        <c:noMultiLvlLbl val="0"/>
      </c:catAx>
      <c:valAx>
        <c:axId val="54153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81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445-56B6-4ABD-91D0-65E791BF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162-BD6E-4764-A938-17E31550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5DA-E7A7-4B47-AC35-0914241D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FDD-21B4-4346-B7E9-4CD14900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046-4927-4769-A421-18DED295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2EB-4CEC-4723-8D11-D0C28C34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C43-3566-44AD-8313-1E5EFFED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6C1-EA85-40EB-9764-A42B4FED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0E1-CE07-46B9-8F13-387595AD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716-8AAC-41DD-993C-C6B1F7B5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D27-AD9C-48E5-B5B7-1906EF32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D55-6BFF-4E74-AC74-9D942A88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DADA7-FF0D-4944-A87E-4FB245C05D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