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280572"/>
        <c:axId val="84005662"/>
      </c:barChart>
      <c:catAx>
        <c:axId val="792805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05662"/>
        <c:crosses val="autoZero"/>
        <c:auto val="1"/>
        <c:lblAlgn val="ctr"/>
        <c:lblOffset val="100"/>
        <c:noMultiLvlLbl val="0"/>
      </c:catAx>
      <c:valAx>
        <c:axId val="840056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2805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FE24-1258-4B75-8FFB-B89D4660F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C340-3A96-4268-8D47-8A8183E4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FBF6-3B71-4E81-B716-F2A3ED9F9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9143-A5F0-4228-BF4D-155C546F2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3AF0-D251-4CEB-8DB0-D9C3F333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D5EE-EF8E-4C08-8C2E-081109B2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B347-C9FC-4E16-A9B6-1F8B231C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3E4F-E2EF-41C4-A932-242804D8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AF7E-1A6F-4173-A53D-FAE3762B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46C8-9720-4D9B-A61A-A73340FD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9D40-5E84-4346-AE0F-32D6E9EF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AC06-4018-4236-99A2-FB47C1F9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F9A579-9CC0-40ED-A6EA-2A9DC88440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