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17903"/>
        <c:axId val="50816520"/>
      </c:barChart>
      <c:catAx>
        <c:axId val="84417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16520"/>
        <c:crosses val="autoZero"/>
        <c:auto val="1"/>
        <c:lblAlgn val="ctr"/>
        <c:lblOffset val="100"/>
        <c:noMultiLvlLbl val="0"/>
      </c:catAx>
      <c:valAx>
        <c:axId val="50816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17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B5A-AECF-4C3D-B790-ED965D37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6CA-CAB8-4E6A-AF5F-A3A37CB2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A78F-B2EC-4C72-BDA2-78175B13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B65-D8FC-44ED-92E0-CD1790D2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445-BF5C-4E4F-B7A6-BD9F006A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0C63-83DD-4B1E-8A52-4DD72F78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8CA0-AC6F-4575-BAB1-3F09F01C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9175-1B1F-48BE-A757-D5963966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4198-5F46-4A91-A7EB-9C49398C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3016-5120-4B82-8768-5CCAD2C8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3E2-BA68-4544-9EA0-1B8D1644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FC42-867E-4999-ACE7-D0C81A94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C4385-D59A-43FF-8FF6-A0FFD15FAD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