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44394"/>
        <c:axId val="34129594"/>
      </c:barChart>
      <c:catAx>
        <c:axId val="18444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29594"/>
        <c:crosses val="autoZero"/>
        <c:auto val="1"/>
        <c:lblAlgn val="ctr"/>
        <c:lblOffset val="100"/>
        <c:noMultiLvlLbl val="0"/>
      </c:catAx>
      <c:valAx>
        <c:axId val="34129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4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00C-834B-4708-AB61-E7B4F9F0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617-86FF-4845-A430-F12B7A51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9AF-721D-437B-9644-EB76294D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BEC-D783-4450-B4F3-E56C0A5D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A00-8E79-4563-9D07-176CE929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C62-A43B-4B6A-93A6-4CFFDB97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4AA-A944-4743-B05E-0B7065EB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772-AD83-4DA4-9E7E-563EA309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D11-E7E4-488F-A63B-145738D3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19F-A1E8-418C-B5EB-BF915E0B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C8A-91B2-49E6-857D-0C4C12A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8EC-A8DE-4EF6-9B6F-8B1215A1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667F6-B804-4163-A59D-C75285B1B5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