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51502"/>
        <c:axId val="32798743"/>
      </c:barChart>
      <c:catAx>
        <c:axId val="85051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98743"/>
        <c:crosses val="autoZero"/>
        <c:auto val="1"/>
        <c:lblAlgn val="ctr"/>
        <c:lblOffset val="100"/>
        <c:noMultiLvlLbl val="0"/>
      </c:catAx>
      <c:valAx>
        <c:axId val="32798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51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BD0-3397-45DE-99E9-4C84E476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9D4F-4D45-465D-8A20-AFC91600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F92-19EC-4CE2-9754-20703F50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35A-333D-4CC0-8FED-5F3827ED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1DB-BBF8-4969-A426-248EFE62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954-B377-41BC-871F-37EF0376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069-6247-4EFF-BB70-6744550F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96C-AA86-4A3C-AAD9-3CE51D75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CE2-50C5-426C-BF7D-E5212E90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E91-CE63-4715-835F-FCE4C1CF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734-3101-4D44-A713-234F9A48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416-64BA-41E9-B58F-0C8081A2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88AD4-8CF8-4409-A15A-CD011EC8B0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