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27752"/>
        <c:axId val="14791039"/>
      </c:barChart>
      <c:catAx>
        <c:axId val="72227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91039"/>
        <c:crosses val="autoZero"/>
        <c:auto val="1"/>
        <c:lblAlgn val="ctr"/>
        <c:lblOffset val="100"/>
        <c:noMultiLvlLbl val="0"/>
      </c:catAx>
      <c:valAx>
        <c:axId val="14791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27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834-0FF9-4D38-A88C-692245C8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1BA-F230-4693-98D0-6A591E36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185-8B60-4650-AFFC-C7EE0492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E53-1DCB-4763-A340-45B9513F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2A2-D0A1-4C10-9165-C8BC3840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3FD-A693-4E1C-884A-3B30D79F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264-7D4C-4F47-A418-AD14FA03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73F-DB12-4A41-B553-09AC11B2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09E-7F37-4306-B00D-989CAC48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4D4-6180-4683-8E40-10B9F1FA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660-1829-470F-A640-9D96CA6D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E7C-8EB0-4FF5-8A0E-3374049F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2B4BF-9A56-47AF-8720-E24B8C27A1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