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41825"/>
        <c:axId val="30999224"/>
      </c:barChart>
      <c:catAx>
        <c:axId val="12441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99224"/>
        <c:crosses val="autoZero"/>
        <c:auto val="1"/>
        <c:lblAlgn val="ctr"/>
        <c:lblOffset val="100"/>
        <c:noMultiLvlLbl val="0"/>
      </c:catAx>
      <c:valAx>
        <c:axId val="30999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41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042-94F8-40D7-846E-109E60AE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E95-09F8-49EB-8F3F-7EF9F08A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30B-6CBC-4D8F-AC6A-9738ABBE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BFD-8E53-421C-9D9E-B6E55389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A93-47F5-44FD-8363-07EEDCCF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4F9-0432-45A7-B2AF-7F0762D9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8DE-D0B1-444D-84F1-DE07E234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025-C43E-4760-A937-E87CD9C0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3E2-C4C1-4951-8E19-BD514E31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67E-5F58-456E-AF9E-2459E765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268-B6F0-485A-93BC-E9645C7C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FEE-FDDE-48EF-AE72-07E6C999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CE242-BB75-462D-9744-A51F33790A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