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14816"/>
        <c:axId val="6832867"/>
      </c:barChart>
      <c:catAx>
        <c:axId val="16414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2867"/>
        <c:crosses val="autoZero"/>
        <c:auto val="1"/>
        <c:lblAlgn val="ctr"/>
        <c:lblOffset val="100"/>
        <c:noMultiLvlLbl val="0"/>
      </c:catAx>
      <c:valAx>
        <c:axId val="6832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14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110D-EC42-44C7-BF0B-0DEAC65E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F0F-C2BC-4306-A693-D35E82A9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AAD-56F8-43E9-B83D-16F21C4E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F1A-BC7A-4DFD-9E56-4D86B37A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C27-3534-428E-9B04-5EDEE89B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F36-5176-4B51-A1CE-0DF817F7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FCC-3E4E-45D9-A2B2-8DBBC5DC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444-1EC0-49E7-9CEB-5EE79A18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8DE-9F02-4F1E-923A-00B4E249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CF0-C700-490B-A497-4D81C8D8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893-287C-4A4A-813F-9183D584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710-F09D-43A6-9A56-99A99CDB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F104F-0BBB-4062-A6D3-B617BAD15C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