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863237"/>
        <c:axId val="97992721"/>
      </c:barChart>
      <c:catAx>
        <c:axId val="258632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992721"/>
        <c:crosses val="autoZero"/>
        <c:auto val="1"/>
        <c:lblAlgn val="ctr"/>
        <c:lblOffset val="100"/>
        <c:noMultiLvlLbl val="0"/>
      </c:catAx>
      <c:valAx>
        <c:axId val="979927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8632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9433-4CA2-44DB-B725-6CF146160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7F58-5B6F-4750-86B3-9F179667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2AA5-69BD-440E-BAE0-47341619F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84D6-C320-46F5-A92F-AF5EEC461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7396-BDC5-44ED-9A3F-0965ACF6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8731-045C-4D19-8FAE-21D91B5C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5FB1-8F53-4288-B77C-01FC2C09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1FA7-91E6-456B-80B8-BACD3E8C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B926-73C3-4ADA-A7CD-8B78CBFAC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214B-8768-4A21-B767-B8C3AE8F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DF68-F067-44D3-A7B2-C1152CE5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708B-9E25-4576-894E-D84B362F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0E8FF-ED65-417E-B776-73C02FACD3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