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3960770"/>
        <c:axId val="96877966"/>
      </c:barChart>
      <c:catAx>
        <c:axId val="9396077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877966"/>
        <c:crosses val="autoZero"/>
        <c:auto val="1"/>
        <c:lblAlgn val="ctr"/>
        <c:lblOffset val="100"/>
        <c:noMultiLvlLbl val="0"/>
      </c:catAx>
      <c:valAx>
        <c:axId val="9687796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96077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313B-D4E8-48C7-8F7D-63A737F9E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7DAC-ECD3-4723-B5C7-3218249C1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9EEF-7210-4C90-9052-68F9956FC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22C7-0B03-41BE-A822-4EDCE6F3A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7C0A-4C9D-4290-B68E-E7163C15C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92EE-C4C9-4FB9-BB56-EDAE13A31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D347-C3B8-413B-AD91-EF53B484D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A9DF-2B15-4CE1-AA65-6E039864C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FAD7-852B-4FC4-8717-C4F0B4DD1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3F4B-7415-44AD-B719-E55558A07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D62B-7BD0-480A-9CC0-EC1BE0CA0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28D2-9B93-4720-8DE9-5C2EF95D0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9EEFD3-0245-4B49-89DB-6A7E73231D8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