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17189"/>
        <c:axId val="35940127"/>
      </c:barChart>
      <c:catAx>
        <c:axId val="62117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40127"/>
        <c:crosses val="autoZero"/>
        <c:auto val="1"/>
        <c:lblAlgn val="ctr"/>
        <c:lblOffset val="100"/>
        <c:noMultiLvlLbl val="0"/>
      </c:catAx>
      <c:valAx>
        <c:axId val="35940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17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626-04F8-4CD7-AAA6-B6E85BB8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512-C602-4673-B2F8-9E2D3472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354-E415-4FF0-8F7F-9923A480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B32-404F-49F1-A5AC-3CF49681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073-CB26-4375-B5D6-B649180D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8BD-1BC6-445B-92F1-974FBBA2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57A-3953-475A-9516-4CC6FDB0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E2B-A17B-4F77-9741-B89A7F6C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538-CF98-4853-913F-BBF0CD6A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601-58E5-4242-8DD1-497FFB35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F6A-B9BF-44EA-9448-A493E355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1DE-8828-435A-B463-FD73265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24648-3F45-43D5-B9FF-70C2C15906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