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63392"/>
        <c:axId val="97766892"/>
      </c:barChart>
      <c:catAx>
        <c:axId val="62763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66892"/>
        <c:crosses val="autoZero"/>
        <c:auto val="1"/>
        <c:lblAlgn val="ctr"/>
        <c:lblOffset val="100"/>
        <c:noMultiLvlLbl val="0"/>
      </c:catAx>
      <c:valAx>
        <c:axId val="97766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63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A99-D6F1-45F4-9046-14BDA65B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C7F-D176-4C99-88A4-81A9B42B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56A-9A1D-47CB-9A55-DA8973A6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173-6F59-48AA-AC11-74931BE3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0CF-7DA7-4926-BB98-982074D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77E-0A53-4B10-935E-E5C7182F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8D3-C72D-41AC-848F-29DAC88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30D-182C-4053-A336-758A611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6E1-BAFE-4B11-BA6F-1A6BDEFA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003-F24A-41F5-9FBC-40ADD31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645-9B57-4025-8F4F-02FEA456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668-9824-40A0-BC25-5FFB2D0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D0F8-4B2C-4760-B785-5665884E9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