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56939"/>
        <c:axId val="11007133"/>
      </c:barChart>
      <c:catAx>
        <c:axId val="769569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07133"/>
        <c:crosses val="autoZero"/>
        <c:auto val="1"/>
        <c:lblAlgn val="ctr"/>
        <c:lblOffset val="100"/>
        <c:noMultiLvlLbl val="0"/>
      </c:catAx>
      <c:valAx>
        <c:axId val="11007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569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ED6-1375-4E6D-9678-37F73F3A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8FD-32D2-48C1-BF65-8253F2FB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0BC-59C3-402F-A5C7-13EED0B2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A7E7-78C8-4593-B389-655B3DCC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6A2-EF8B-47F4-BBE7-61645AE7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A1DE-4C30-41D2-B0C6-46AFCF7A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9E9-1AE0-475F-B67E-876B3BE5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71BD-8C7B-44B3-90EC-C49C2475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C08-E942-4339-9ACA-D896BB4A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588-DD6E-4F7E-97DD-F646E9DF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F67-6C76-4136-8C99-3F79329F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B09-FF30-4C3F-9D7A-F0B48F57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36172-DAAA-4E9A-8233-B994F4B4DE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