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019312"/>
        <c:axId val="33023198"/>
      </c:barChart>
      <c:catAx>
        <c:axId val="540193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23198"/>
        <c:crosses val="autoZero"/>
        <c:auto val="1"/>
        <c:lblAlgn val="ctr"/>
        <c:lblOffset val="100"/>
        <c:noMultiLvlLbl val="0"/>
      </c:catAx>
      <c:valAx>
        <c:axId val="330231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193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3541-E7B2-40F6-BBD8-913808EC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0CB2-BAD8-48AA-AB3F-446AC15D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A855-AA91-4D32-9667-68EB44DB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F06A-2853-437A-9F86-9C6BC864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B149-5612-4391-8741-FC5A46CA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1FC6-B7A5-4D30-966B-04AEA718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6EF5-B8D2-40FC-A80E-C38DAC0B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69B4-ACB8-4352-A60D-AE335D33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9366-A907-49AF-B62E-50D8741C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2CCD-E4E4-4BE4-B33E-A4F6AEE7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1B86-E795-4BA3-8FE9-ABB379A3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6186-48A2-45C9-B860-A5515944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5CA17-E49F-4C63-97DE-E3EA0090B3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